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58676"/>
        <c:axId val="54266440"/>
      </c:barChart>
      <c:catAx>
        <c:axId val="78458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66440"/>
        <c:crosses val="autoZero"/>
        <c:auto val="1"/>
        <c:lblAlgn val="ctr"/>
        <c:lblOffset val="100"/>
        <c:noMultiLvlLbl val="0"/>
      </c:catAx>
      <c:valAx>
        <c:axId val="54266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58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DA9-22C0-40BF-B745-132C5A85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0D2-4533-4546-99D7-267C7FF1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441-2B8B-44A2-B587-8B366986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F8E-E2E6-4086-9B59-58E4A733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B72-E25B-4439-A89A-3358E341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0AA-D97B-4EF0-B492-63127D30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2395-221D-4026-BED5-34A00120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BC8-F10E-4624-8A93-6D5B11CC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BCC-3F1B-4CB6-8BCA-DE97DA4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B8F-5640-4B51-A17C-FF54BCA6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DED-62D7-4436-8FFE-CD2C507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389-C902-47F0-A29F-D15D5DA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5657D-E628-4D72-A87D-08D2515CF2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