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94486"/>
        <c:axId val="86476431"/>
      </c:barChart>
      <c:catAx>
        <c:axId val="67394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76431"/>
        <c:crosses val="autoZero"/>
        <c:auto val="1"/>
        <c:lblAlgn val="ctr"/>
        <c:lblOffset val="100"/>
        <c:noMultiLvlLbl val="0"/>
      </c:catAx>
      <c:valAx>
        <c:axId val="86476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94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4ED-4945-41CC-9964-F188E7CC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337-B5F0-45B7-B4B7-CF009822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3FE-B1B3-4F90-9EC0-40EC02A3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D1E-1E84-4A33-BF8E-91D65B2C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8C4-60C7-421D-8F0E-4326CD9B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E51-A8FB-4E2D-BC89-9F1495EA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369-FAD1-428B-9B70-66DCB840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C58-1E46-41AE-8301-D97977ED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B94-70FE-4811-B2DE-A719D3BF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40F-0CC7-4EFF-99D3-7500B637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B3B-08E4-49AB-9594-90796542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7B7-0CCA-4F1C-82B0-68AAB536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23816-DEC8-4945-A30B-4A92C1306C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